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C470-DC73-4596-BBDE-BFB2996E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B6F-A512-45B9-8CB7-66EA1F86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7E1-730F-467F-98D8-D559B9ED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696-04FB-49C8-87A5-5E2EBA1F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887-CD59-48BF-BF5C-0A46FCEF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2B6-553F-4CEA-889B-28AF3D70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9D0-18CA-4493-B6F4-E0D4B7A3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200-9310-48B5-87BB-B2D375D8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D9E-16D2-45E2-9B39-525779CE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F7A-D5B0-4E3B-89F2-36AE3B5C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FF4-D356-4B63-9B53-A49BB8B7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149-6418-4A5A-B808-7A1953C8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511C-0B20-4EBC-9F1A-AAC8EB16C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AP</a:t>
            </a:r>
            <a:r>
              <a:rPr b="0" lang="de-DE" sz="4400" spc="-1" strike="noStrike">
                <a:solidFill>
                  <a:srgbClr val="808000"/>
                </a:solidFill>
                <a:latin typeface="Arial Black"/>
              </a:rPr>
              <a:t> </a:t>
            </a:r>
            <a:br>
              <a:rPr sz="4400"/>
            </a:b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„Wireless Application Protocol</a:t>
            </a:r>
            <a:r>
              <a:rPr b="0" lang="de-DE" sz="3600" spc="-1" strike="noStrike">
                <a:solidFill>
                  <a:srgbClr val="0033cc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371600"/>
            <a:ext cx="883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165400"/>
            <a:ext cx="7620120" cy="42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1.Einleitung</a:t>
            </a:r>
            <a:br>
              <a:rPr sz="24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.1 Was ist WAP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.2 Geschichte</a:t>
            </a:r>
            <a:br>
              <a:rPr sz="1800"/>
            </a:b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2. Aufbau von WAP</a:t>
            </a:r>
            <a:br>
              <a:rPr sz="24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.1 Grundsätzlich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.2 WAP Schicht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.3 Verbindungsaufbau</a:t>
            </a:r>
            <a:br>
              <a:rPr sz="2000"/>
            </a:b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3. WML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.1 WML Wireless Markup Languag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.2 WML-Script</a:t>
            </a:r>
            <a:br>
              <a:rPr sz="2000"/>
            </a:b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4. WAP im All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4.1 Surfen mit dem Handy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4.2 World Wide W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600200"/>
            <a:ext cx="0" cy="60948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590920"/>
            <a:ext cx="0" cy="53316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505320"/>
            <a:ext cx="0" cy="83808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21840" y="160020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ragsstru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876920"/>
            <a:ext cx="0" cy="4572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057400"/>
            <a:ext cx="35053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295280"/>
            <a:ext cx="883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WA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ML und WML-Scrip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447920"/>
            <a:ext cx="8534520" cy="5181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00200"/>
            <a:ext cx="0" cy="7621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81080"/>
            <a:ext cx="26672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090880"/>
            <a:ext cx="769608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w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card id=“cardOne“  title=”WML Timer Dem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timer=“#cardTwo“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timer value=”50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p align=”center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lcome to W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/car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card id=”cardTwo” title=”WML TimerDemo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p align=”center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en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/car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/w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2343240"/>
            <a:ext cx="0" cy="36003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29680" y="153684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2280" y="1371600"/>
            <a:ext cx="883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A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„WML und WML-Script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1600200"/>
            <a:ext cx="0" cy="7621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057400"/>
            <a:ext cx="26672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2384280"/>
            <a:ext cx="769608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ML-Script ähnelt Java-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ötigt zusätzliche Bandbr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ängere Übertragungsr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t Datentypen und syntaktische Kompon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2857680"/>
            <a:ext cx="0" cy="228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733920"/>
            <a:ext cx="0" cy="228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53000" y="156384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ML-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14400" y="1600200"/>
            <a:ext cx="0" cy="7621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38862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A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„WAP im Alltag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3200400"/>
            <a:ext cx="0" cy="228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0160" y="2428920"/>
            <a:ext cx="5995800" cy="32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hlerquellen wie Verbindungsaufbau und all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möglichen Servermeld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 – verfügbare Hand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windigkeit – HSCSD, G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3733920"/>
            <a:ext cx="0" cy="3808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43400"/>
            <a:ext cx="0" cy="3049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7400" y="160020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fen mit dem Han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2819520"/>
            <a:ext cx="0" cy="5331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4952880"/>
            <a:ext cx="0" cy="3049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1371600"/>
            <a:ext cx="883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4400" y="1600200"/>
            <a:ext cx="0" cy="7621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2057400"/>
            <a:ext cx="31244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A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„ WAP im Alltag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2895480"/>
            <a:ext cx="0" cy="228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438280"/>
            <a:ext cx="7315200" cy="228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P contra 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il per H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y-Home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3505320"/>
            <a:ext cx="0" cy="30456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4114800"/>
            <a:ext cx="0" cy="3049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5960" y="16002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orld Wide 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2819520"/>
            <a:ext cx="0" cy="3808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371600"/>
            <a:ext cx="883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A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„Einleitung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600200"/>
            <a:ext cx="0" cy="7621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60020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ist WAP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057400"/>
            <a:ext cx="26672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384280"/>
            <a:ext cx="7696080" cy="37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P =&gt; Wireless Application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P ist weltweit gültiger Standard für Zugang mit Handy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ins 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r Zeit 3 Geräteklassen, Handys, Organizer und Desk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-mails, Aktienkurse,Wetterberichte Zugfahrpläne, usw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wendet bestehende Standards und Technologien, di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für WAP angepasst wu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743200"/>
            <a:ext cx="0" cy="3808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4290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4267080"/>
            <a:ext cx="0" cy="3812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371600"/>
            <a:ext cx="883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4876920"/>
            <a:ext cx="0" cy="3808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A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„Einleitung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600200"/>
            <a:ext cx="0" cy="7621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2160" y="160020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chi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2057400"/>
            <a:ext cx="26672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384280"/>
            <a:ext cx="7696080" cy="411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ickelt von versch. Mobilnetzanbietern (Nokia, Ericss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Motorola, UnwiredPla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 1.0 kam 30. April 1998, musste aber wegen Einwänden d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W3C modifizier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 1.1 seit 1. Juli 1999, nicht abwärtskompati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üngst verabschiedete Version ist V 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 kommenden Herbst wird Version V 1.3 erwar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r Zeit kommen laut C‘t (9/2000) jährlich 2 neue Versio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743200"/>
            <a:ext cx="0" cy="6858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3733920"/>
            <a:ext cx="0" cy="6094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371600"/>
            <a:ext cx="883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5720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518148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79132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A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„Aufbau von WAP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600200"/>
            <a:ext cx="0" cy="7621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60020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ndsätzlich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057400"/>
            <a:ext cx="31244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384280"/>
            <a:ext cx="7696080" cy="40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P = hierarchisches Schichtenmodel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mit 5 Schichten ähnlich ISO / O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elle Seiten in WML und einfache Graphik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wegen 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x. 9600 Bit/s und max. 160 bzw. 93 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ft Gateways nö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SCSD und GPRS sollen Besserung br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743200"/>
            <a:ext cx="0" cy="6094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1371600"/>
            <a:ext cx="883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657600"/>
            <a:ext cx="0" cy="6094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4572000"/>
            <a:ext cx="0" cy="3808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5181480"/>
            <a:ext cx="0" cy="3812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133720"/>
            <a:ext cx="82296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A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„Aufbau von WAP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600200"/>
            <a:ext cx="0" cy="7621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1440" y="160020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P Schichte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057400"/>
            <a:ext cx="29718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371600"/>
            <a:ext cx="883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715000"/>
            <a:ext cx="78487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earers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SM CDMA IDEN 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5029200"/>
            <a:ext cx="78487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Black"/>
              </a:rPr>
              <a:t>WDP</a:t>
            </a: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Wireless Datagram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4343400"/>
            <a:ext cx="68580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Black"/>
              </a:rPr>
              <a:t>WTLS</a:t>
            </a: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Wireless Transport Layer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657600"/>
            <a:ext cx="68580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WTP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ireless Transpor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971800"/>
            <a:ext cx="68580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WSP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ireless Session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286000"/>
            <a:ext cx="68580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Black"/>
              </a:rPr>
              <a:t>WAE</a:t>
            </a: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Wireless Application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2286000"/>
            <a:ext cx="761760" cy="2590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Other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133720"/>
            <a:ext cx="82296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600200"/>
            <a:ext cx="0" cy="7621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87840" y="160020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m Mobilnetz ins 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057400"/>
            <a:ext cx="41911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A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„Verbindungsaufbau ins WWW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495680"/>
            <a:ext cx="3352680" cy="21337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TA -Server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.B von D1 / D2 usw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tige WML S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362320"/>
            <a:ext cx="5181480" cy="2666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657600" y="4648320"/>
            <a:ext cx="4495680" cy="914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276720"/>
            <a:ext cx="7621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76880" y="2620800"/>
            <a:ext cx="1183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P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124080"/>
            <a:ext cx="6858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3760" y="2743200"/>
            <a:ext cx="15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B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434340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68640" y="37339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TML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09680" y="342900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3809880"/>
            <a:ext cx="91440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81280" y="4114800"/>
            <a:ext cx="990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0076600">
            <a:off x="3812040" y="441612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3524400">
            <a:off x="2202840" y="43340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3276720"/>
            <a:ext cx="4572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358128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2560" y="3124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333760" y="3657600"/>
            <a:ext cx="2819160" cy="990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1371600"/>
            <a:ext cx="883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A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„WML und WML-Script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600200"/>
            <a:ext cx="0" cy="7621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057400"/>
            <a:ext cx="26672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2384280"/>
            <a:ext cx="769608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ML optimiert für eine drahtlose Übertra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Grafiken im WBMP-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ML eng verwandt mit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rd = kleinste darzustellende Ein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ck = mehrere Cards zusammengefaß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57680"/>
            <a:ext cx="0" cy="228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429000"/>
            <a:ext cx="0" cy="228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038480"/>
            <a:ext cx="0" cy="228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3720" y="156384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ireless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648320"/>
            <a:ext cx="0" cy="228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609480" y="2286000"/>
            <a:ext cx="7772400" cy="4237200"/>
            <a:chOff x="609480" y="2286000"/>
            <a:chExt cx="7772400" cy="4237200"/>
          </a:xfrm>
        </p:grpSpPr>
        <p:sp>
          <p:nvSpPr>
            <p:cNvPr id="137" name=""/>
            <p:cNvSpPr/>
            <p:nvPr/>
          </p:nvSpPr>
          <p:spPr>
            <a:xfrm>
              <a:off x="3124080" y="5769000"/>
              <a:ext cx="5257800" cy="75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z.B. quot ( „“ ), amp ( &amp; ), lt ( &lt; ), gt ( &gt;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5769000"/>
              <a:ext cx="2514600" cy="75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nderzeich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24080" y="5189400"/>
              <a:ext cx="525780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$variable1                $(variable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480" y="5189400"/>
              <a:ext cx="251460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riabl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4080" y="4608360"/>
              <a:ext cx="5257800" cy="58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&lt;!- WML-Kommentar -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480" y="4608360"/>
              <a:ext cx="2514600" cy="58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omment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24080" y="4027320"/>
              <a:ext cx="5257800" cy="58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&lt;p align=“center“&gt;, &lt;card id=“CardOne“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480" y="4027320"/>
              <a:ext cx="2514600" cy="58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3446640"/>
              <a:ext cx="5257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&lt;br&gt;, &lt;p&gt;, ..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480" y="3446640"/>
              <a:ext cx="25146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e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24080" y="2867040"/>
              <a:ext cx="525780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&lt;tag&gt;&lt;/tag&gt;   =   &lt;tag/&gt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2867040"/>
              <a:ext cx="251460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24080" y="2286000"/>
              <a:ext cx="5257800" cy="58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&lt;card&gt;..........&lt;/card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480" y="2286000"/>
              <a:ext cx="2514600" cy="58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a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2286000"/>
              <a:ext cx="2514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480" y="6523200"/>
              <a:ext cx="2514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2286000"/>
              <a:ext cx="0" cy="5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81880" y="2286000"/>
              <a:ext cx="0" cy="5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24080" y="2286000"/>
              <a:ext cx="525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480" y="2867040"/>
              <a:ext cx="0" cy="579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81880" y="2867040"/>
              <a:ext cx="0" cy="579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480" y="3446640"/>
              <a:ext cx="0" cy="580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81880" y="3446640"/>
              <a:ext cx="0" cy="580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480" y="4027320"/>
              <a:ext cx="0" cy="5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81880" y="4027320"/>
              <a:ext cx="0" cy="5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480" y="4608360"/>
              <a:ext cx="0" cy="5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1880" y="4608360"/>
              <a:ext cx="0" cy="5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480" y="5189400"/>
              <a:ext cx="0" cy="579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1880" y="5189400"/>
              <a:ext cx="0" cy="579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5769000"/>
              <a:ext cx="0" cy="754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5769000"/>
              <a:ext cx="0" cy="754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24080" y="6523200"/>
              <a:ext cx="525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480" y="286704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480" y="344664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480" y="402732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9480" y="460836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9480" y="51894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480" y="57690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52280" y="1371600"/>
            <a:ext cx="883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A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„WML und WML-Script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600200"/>
            <a:ext cx="0" cy="7621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2057400"/>
            <a:ext cx="26672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2971800"/>
            <a:ext cx="0" cy="3808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4114800"/>
            <a:ext cx="0" cy="3808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581280"/>
            <a:ext cx="0" cy="3812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4724280"/>
            <a:ext cx="0" cy="3812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5334120"/>
            <a:ext cx="0" cy="3808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5943600"/>
            <a:ext cx="0" cy="3808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8120" y="15526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undlege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2362320"/>
            <a:ext cx="0" cy="3808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2280" y="1371600"/>
            <a:ext cx="883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A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„WML und WML-Script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600200"/>
            <a:ext cx="0" cy="7621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2057400"/>
            <a:ext cx="26672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1360" y="2171880"/>
            <a:ext cx="769608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w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card id=“card1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ML-Kar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/car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car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do type=“accept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go href=“#card1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/do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ML-Kart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/car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/w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2343240"/>
            <a:ext cx="0" cy="39052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29680" y="153684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5T12:53:42Z</dcterms:created>
  <dc:creator>Tom Gehring</dc:creator>
  <dc:description/>
  <dc:language>en-US</dc:language>
  <cp:lastModifiedBy>Tom</cp:lastModifiedBy>
  <cp:lastPrinted>2000-05-10T09:09:28Z</cp:lastPrinted>
  <dcterms:modified xsi:type="dcterms:W3CDTF">2000-05-10T10:05:00Z</dcterms:modified>
  <cp:revision>52</cp:revision>
  <dc:subject/>
  <dc:title>WAP  „Wireless Application Protocoll“</dc:title>
</cp:coreProperties>
</file>